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58C2-2B12-4C0D-A42E-EA551ABAD01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7B0D-AA3A-4018-AB1B-83D4C061B31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EB6A-E285-4BF6-961B-C0967057DE8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8067-4170-4AEB-A3DC-58D66524B8A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5B49-0CB2-45DD-8DEB-F019D82AF87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A943-66A7-4F60-94F3-3F138E44B23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1B2E-423B-498A-8F6A-6E7F3592E0F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0AC7-E113-446C-9832-B3A420ACD75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E7D2-B462-4AF3-8592-E5562AB4BC0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2DC9-F0BB-466F-A1CE-83219AAA7F5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5F06-F9EC-48C3-A016-DF5EB56952E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038D-C6A5-47BC-B57C-D43EF19049A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C049-32CF-477B-86C4-633365CFB24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27A6-F8FF-45F2-BB23-58CF32E5C43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D0D7-95A3-4354-AD73-87ED77C4909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542B-9304-4D4B-B1BE-85CD3C845ED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8294-B4CA-4473-84DE-E1D55255BEE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9AF0-24CF-4A28-9015-1DFAFC76D38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C68B-68EF-4E8E-912E-E8FC8FB588E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C73F-D269-463B-B04C-41E2DEE9604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AB72-D155-4A49-B132-99E18B86AC2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3A98-6938-4666-939C-0C503584DCC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2B05-5D5A-4118-8723-D009861DB7F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E8D9-7814-4668-ABFD-390D86DBE5D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BB0F-1849-43B7-9642-E6B24A6FD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605A-7980-4135-BE24-079884C9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8388-EA11-4DA1-8176-3EDE2A07B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46D4-D039-4F3A-A7CC-8C2B85071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8AD7-4FE5-49F0-96BA-490EF73B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8B22-A3B0-4EA3-9238-9359FFF3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042F-38A9-4D7D-8C5E-0826ABA8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9E38-15B6-4473-8A93-5EEB1584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E356-EC32-4AB4-92D0-C25B90CD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BAC1-AC91-436B-8E94-FBE2CD84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2B5B-4486-4AAB-9A6B-94F96B9A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8377-CDB9-4343-8C63-C5731D22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57D3-F3A3-455F-9B3A-98CFC10BFD69}" type="slidenum">
              <a:rPr b="0" lang="ko-K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굴림"/>
              </a:rPr>
              <a:t>你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  <a:ea typeface="Arial"/>
              </a:rPr>
              <a:t>nǐ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너，당신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没关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rot="10800000">
            <a:off x="333000" y="6654240"/>
            <a:ext cx="62643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Arial"/>
              </a:rPr>
              <a:t>méiguānxi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괜찮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èxi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고맙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ù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아니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客气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kèq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사양하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没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éi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없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事</a:t>
            </a: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儿</a:t>
            </a: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shì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不用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búyòng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할 필요 없다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谢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è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감사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大家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àjiā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여러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同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 rot="10800000">
            <a:off x="333000" y="6465600"/>
            <a:ext cx="62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tóngxué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학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好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  <a:ea typeface="Arial"/>
              </a:rPr>
              <a:t>hǎo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좋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晚上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 rot="10800000">
            <a:off x="333000" y="6654240"/>
            <a:ext cx="62643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Arial"/>
              </a:rPr>
              <a:t>wǎnshang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저녁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一会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yíhuì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 rot="10800000">
            <a:off x="215640" y="5167440"/>
            <a:ext cx="638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잠시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7000" spc="-1" strike="noStrike">
                <a:solidFill>
                  <a:srgbClr val="000000"/>
                </a:solidFill>
                <a:latin typeface="Arial"/>
              </a:rPr>
              <a:t>잠깐 동안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Arial"/>
              </a:rPr>
              <a:t>您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ní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 rot="10800000">
            <a:off x="215640" y="5152320"/>
            <a:ext cx="638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Arial"/>
              </a:rPr>
              <a:t>당신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7200" spc="-1" strike="noStrike">
                <a:solidFill>
                  <a:srgbClr val="000000"/>
                </a:solidFill>
                <a:latin typeface="Arial"/>
              </a:rPr>
              <a:t>你의 존칭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早上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 rot="10800000">
            <a:off x="333000" y="6616080"/>
            <a:ext cx="62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zǎosha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아침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44360" y="1187280"/>
            <a:ext cx="65977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0" spc="-1" strike="noStrike">
                <a:solidFill>
                  <a:srgbClr val="000000"/>
                </a:solidFill>
                <a:latin typeface="Arial"/>
              </a:rPr>
              <a:t>再见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zàijià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 rot="10800000">
            <a:off x="215640" y="5205240"/>
            <a:ext cx="63817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500" spc="-1" strike="noStrike">
                <a:solidFill>
                  <a:srgbClr val="000000"/>
                </a:solidFill>
                <a:latin typeface="Arial"/>
              </a:rPr>
              <a:t>잘 가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6500" spc="-1" strike="noStrike">
                <a:solidFill>
                  <a:srgbClr val="000000"/>
                </a:solidFill>
                <a:latin typeface="Arial"/>
              </a:rPr>
              <a:t>또 만나자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明天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 rot="10800000">
            <a:off x="333000" y="653976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</a:rPr>
              <a:t>míngtiān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내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jià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만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老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lǎoshī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선생님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们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0800000">
            <a:off x="215640" y="4970520"/>
            <a:ext cx="63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들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9600" spc="-1" strike="noStrike">
                <a:solidFill>
                  <a:srgbClr val="000000"/>
                </a:solidFill>
                <a:latin typeface="Arial"/>
              </a:rPr>
              <a:t>복수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下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xiàwǔ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오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4"/>
          <p:cNvSpPr/>
          <p:nvPr/>
        </p:nvSpPr>
        <p:spPr>
          <a:xfrm>
            <a:off x="144360" y="485640"/>
            <a:ext cx="6597720" cy="3870360"/>
          </a:xfrm>
          <a:prstGeom prst="rect">
            <a:avLst/>
          </a:prstGeom>
          <a:solidFill>
            <a:srgbClr val="ffffff"/>
          </a:solidFill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5"/>
          <p:cNvSpPr/>
          <p:nvPr/>
        </p:nvSpPr>
        <p:spPr>
          <a:xfrm>
            <a:off x="144360" y="5003640"/>
            <a:ext cx="6597720" cy="3745080"/>
          </a:xfrm>
          <a:prstGeom prst="rect">
            <a:avLst/>
          </a:prstGeom>
          <a:noFill/>
          <a:ln cap="rnd" w="889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4360" y="1187280"/>
            <a:ext cx="65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0" spc="-1" strike="noStrike">
                <a:solidFill>
                  <a:srgbClr val="000000"/>
                </a:solidFill>
                <a:latin typeface="Arial"/>
              </a:rPr>
              <a:t>对不起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10800000">
            <a:off x="333000" y="638964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Arial"/>
              </a:rPr>
              <a:t>duìbuqǐ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 rot="10800000">
            <a:off x="215640" y="5016240"/>
            <a:ext cx="638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0" spc="-1" strike="noStrike">
                <a:solidFill>
                  <a:srgbClr val="000000"/>
                </a:solidFill>
                <a:latin typeface="Arial"/>
              </a:rPr>
              <a:t>미안하다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02:03:04Z</dcterms:created>
  <dc:creator>System</dc:creator>
  <dc:description/>
  <dc:language>en-US</dc:language>
  <cp:lastModifiedBy>System</cp:lastModifiedBy>
  <dcterms:modified xsi:type="dcterms:W3CDTF">2014-01-27T02:37:10Z</dcterms:modified>
  <cp:revision>4</cp:revision>
  <dc:subject/>
  <dc:title>슬라이드 1</dc:title>
</cp:coreProperties>
</file>